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4204-4ED1-4F94-BFBA-F8016B90F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8225-4728-4FCF-8FD5-2331E34C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94FC-F5A6-443B-9AB0-CA0F94340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F9A1-3E6E-4395-B524-37F3B3406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1EA5-C7DE-430D-9933-AC01DF018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E7B0-9254-415C-B880-74663EBE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29966-241F-45F3-AC2A-0F87601C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46E7-DBC2-4257-AB0A-5EF1C785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479E-C92A-4095-A1C9-76D3AE31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2067-9574-4E0E-B13D-10ACE03F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0A40-E555-46E9-8C90-8FA6F715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075F-1D66-4AF8-8139-7A27C6E6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200B-5F61-4E41-A3B4-E8814604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9500-68D6-4961-9073-EE22863A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B86F-ECA7-4BAA-B494-90019E9E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B315-65ED-417D-887B-EE8868C9C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0BCC-E15F-44CD-AAE3-3495E8F2B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5AC0-CA87-43B4-B9E4-30CF7DEF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3A4B-EDEF-4066-AF92-625934C9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60EE-B7DF-4F35-8E7B-08F5D497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DC79-627F-4A24-A7D7-00839D51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6291-23B8-4D77-9CF3-2101E29B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87FF-9880-4D77-9264-12E7B960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D620-0171-4F4A-9159-4479435A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6BBD-1429-4FB4-9355-0422F32FB9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6E72-10F6-4D50-AC12-D7F2F88EEA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9d9ff"/>
                </a:solidFill>
                <a:uFillTx/>
                <a:latin typeface="Comic Sans MS"/>
              </a:rPr>
              <a:t>St Ives</a:t>
            </a:r>
            <a:br>
              <a:rPr sz="4800"/>
            </a:br>
            <a:endParaRPr b="1" lang="en-US" sz="28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9280" y="1125000"/>
            <a:ext cx="67820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edd y gerdd ‘St Ive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As I was going to St Ive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I met a man with seven w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Each of the wives had seven sack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In each sack were seven ca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Each cat had seven ki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Kits, cats, sacks, wives – how many people were going to St Ives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elly sawl person oedd yn mynd i St Ives 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516720" y="4149720"/>
            <a:ext cx="1887480" cy="2084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020000" y="2133720"/>
            <a:ext cx="1363680" cy="1523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796000" y="1052640"/>
            <a:ext cx="106344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9:53:00Z</dcterms:created>
  <dc:creator>Carwyn</dc:creator>
  <dc:description/>
  <dc:language>en-US</dc:language>
  <cp:lastModifiedBy>Carwyn</cp:lastModifiedBy>
  <dcterms:modified xsi:type="dcterms:W3CDTF">2008-12-07T20:00:09Z</dcterms:modified>
  <cp:revision>2</cp:revision>
  <dc:subject/>
  <dc:title>St Ives </dc:title>
</cp:coreProperties>
</file>